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A00-55C2-40C4-951F-56EC73E4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B88-A1C9-41F4-82C5-AA04814E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FC2-B4BC-45A0-9954-BCFF2281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622-0EFE-4D36-A84C-89EB02AE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A5E-A19A-42AA-A01C-5782B33E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1818-D2BF-46EF-97A4-286312A4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2F3-420E-46AA-BFBD-FDBA5867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FCA-39B7-4C8E-B0E1-0A55BBAF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2C1-479C-4BAC-A3B4-630FA1BE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A49-34C1-434F-99C6-719F752E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133-9D32-4091-95AD-87B65A6A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334-4E1F-4DCA-8752-9957D817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75C9-9681-4C22-A01F-880B1E67E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212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2010-08-25-13-56-44-1-all-nippon-airways-owns-pokmon-airplanes-pokm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9002880" cy="6743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362320" y="1828800"/>
            <a:ext cx="3504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per Plane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137124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Our Favorite Paper Airplanes."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per Airplane: Amazing Pap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irplanes (Old Title:Kool PaperAirplan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Web. 12 Jan. 201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tp://www.amazingpaperairplanes.com/Favorites.html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51424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DTH Rocket Eandevors."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TH Rocket Eandev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. 12 Jan. 2011. &lt;H:scienceScience fa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DTH Rocket Articles Improv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rodynamics 5 Types of Drag.mht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3885840"/>
            <a:ext cx="69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Worldbook Online."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rldbook On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Web. 12 Jan. 201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tp://www.worldbookonline.com/advanced/article?id=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6080&amp;st=airplane+designs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965920" y="316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nique-aircraft-paint-designs-6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200400" y="457200"/>
            <a:ext cx="3352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bl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42670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91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problem is what type of aerodynamics or plane type will work better in strong wi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921280" y="340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rvr" descr=""/>
          <p:cNvPicPr/>
          <p:nvPr/>
        </p:nvPicPr>
        <p:blipFill>
          <a:blip r:embed="rId1"/>
          <a:stretch/>
        </p:blipFill>
        <p:spPr>
          <a:xfrm>
            <a:off x="152280" y="130320"/>
            <a:ext cx="8991720" cy="769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505320" y="380880"/>
            <a:ext cx="2514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ypothe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42900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hypothesis is that the plane with the best type of aerodynamics and weight will work best. My guess is that it will probably be the Space Shu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78520" y="410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strike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105520" y="457200"/>
            <a:ext cx="3419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ocedur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352680"/>
            <a:ext cx="3352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)Research different types of aero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)Fill out first part of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)Gather all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)Build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)Test the pla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)Record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)Finish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)Start and finish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)Upload to Wiki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) (Optional) Start and finish pos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5715000" y="4648320"/>
            <a:ext cx="2857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terial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860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hole lot of paper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for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book and 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Air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A. The Delta D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A. The Delta Fi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A. The Delta Fighter L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A. The Bally Button Gl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A. The Space Shu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A. The Phat Gl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 rot="5400000">
            <a:off x="1002960" y="1892160"/>
            <a:ext cx="214632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99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Results</a:t>
            </a:r>
            <a:endParaRPr b="0" lang="en-US" sz="1800" spc="1" strike="noStrike">
              <a:ln w="0">
                <a:noFill/>
              </a:ln>
              <a:solidFill>
                <a:srgbClr val="6699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51920"/>
            <a:ext cx="6477120" cy="2284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lta Fighter-The plane flew straight for 1 second then flew of course to the right. The end result was b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lta Fighter L.A.-It stayed straight on course and almost hit the fan but at the last minute it took the wind and rode above the fan for another second or tw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ace Shuttle-The space shuttle was the worst. It didn’t get remotely close to the wind or fan before it turned out of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ly Button Glider-It was pretty good. It stayed on course and took the wind toward the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lta Dart-The plane somehow spiraled straight and hit the fan. It was b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at Glider-The Phat Glider was probably the best because like the Delta Fighter L.A. it took the wind and rode it upward and continued to ride it upward onto a sh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00200" y="4648320"/>
          <a:ext cx="5334120" cy="1852560"/>
        </p:xfrm>
        <a:graphic>
          <a:graphicData uri="http://schemas.openxmlformats.org/drawingml/2006/table">
            <a:tbl>
              <a:tblPr/>
              <a:tblGrid>
                <a:gridCol w="1125360"/>
                <a:gridCol w="1084320"/>
                <a:gridCol w="1020960"/>
                <a:gridCol w="1019160"/>
                <a:gridCol w="10843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99cc00"/>
                          </a:solidFill>
                          <a:uFillTx/>
                          <a:latin typeface="Arial"/>
                          <a:ea typeface="Times New Roman"/>
                        </a:rPr>
                        <a:t>Airpl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99cc00"/>
                          </a:solidFill>
                          <a:uFillTx/>
                          <a:latin typeface="Arial"/>
                          <a:ea typeface="Times New Roman"/>
                        </a:rPr>
                        <a:t>Hang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99cc00"/>
                          </a:solidFill>
                          <a:uFillTx/>
                          <a:latin typeface="Arial"/>
                          <a:ea typeface="Times New Roman"/>
                        </a:rPr>
                        <a:t>W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99cc00"/>
                          </a:solidFill>
                          <a:uFillTx/>
                          <a:latin typeface="Arial"/>
                          <a:ea typeface="Times New Roman"/>
                        </a:rPr>
                        <a:t>S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99cc00"/>
                          </a:solidFill>
                          <a:uFillTx/>
                          <a:latin typeface="Arial"/>
                          <a:ea typeface="Times New Roman"/>
                        </a:rPr>
                        <a:t>Re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Delta F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2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Sm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B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Delta F.L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3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Space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3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Sm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B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B.B. Gl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4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Delta D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2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B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Phat 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5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La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33cc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609480" y="3733920"/>
            <a:ext cx="3038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onclusions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568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hypothesis was wrong. I thought that the space shuttle would be the best because it was made and deigned for high winds but I was wrong. It turns out the Space shuttle works better just flying straight with calm wind not hard blowing wi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48320" y="457200"/>
            <a:ext cx="3352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rap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04920" y="4419720"/>
          <a:ext cx="4952880" cy="1711080"/>
        </p:xfrm>
        <a:graphic>
          <a:graphicData uri="http://schemas.openxmlformats.org/drawingml/2006/table">
            <a:tbl>
              <a:tblPr/>
              <a:tblGrid>
                <a:gridCol w="1166760"/>
                <a:gridCol w="1082880"/>
                <a:gridCol w="869760"/>
                <a:gridCol w="907920"/>
                <a:gridCol w="925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irpl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ang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W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Re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ta F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ta F.L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ce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.B. Gl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ta D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t Gl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85800" y="685800"/>
            <a:ext cx="448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cknowledgements</a:t>
            </a:r>
            <a:endParaRPr b="0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8862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53352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thank Mrs. Riffel first off for the time to work on my project and showing me Wikispaces. Thank you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38098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also thank the boys who flew the planes Zane, Jayde, Dallas, Gus, and Alex. Thanks 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SD376</cp:lastModifiedBy>
  <cp:lastPrinted>2009-04-22T19:24:48Z</cp:lastPrinted>
  <dcterms:modified xsi:type="dcterms:W3CDTF">2011-02-17T20:22:2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